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452-7418-43C4-880E-BF2069A3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EAE-6835-43F9-AC76-05A39831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FCE-A0E2-4D3D-BD7E-651D689B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5B3-26FB-4DB1-8F64-EA3BC944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F5EA-1432-4625-86D1-348EDD03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580D-5CDD-4354-A29E-50673ABE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1AA4-BCF4-4980-A34A-DF7077D9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2875-69C7-4F78-BFAC-91ABA95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1CFC-6538-4F5B-AB05-90A10BDC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15E1-D972-4E99-8E00-CDC8C7E7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E4B7-3640-485A-A3DC-70AD61F8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C94-E22C-45E2-90D5-D2ED2F9F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A9B8-6749-47B4-B983-9809AF5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2126-AD6A-4257-A939-2E1FAEB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2C8-C23C-4703-9DA8-8402D9BD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22B0-8146-4F1E-A3E4-F4D3BCBC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B68B-91D5-4511-8C43-28F34C0A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990-91BA-4C30-BCAD-CD3D780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378-425C-4DD3-9C2B-1DB99D12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7B2-914C-4038-ABD1-D25A6864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EC3-3788-4F31-9512-53D3E94B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07B-0521-4B0D-90E1-20E47381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958-9DF3-4516-B0E4-1B57E5F0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4A4-49EC-4D43-B3BA-9EB4394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C5C2-E975-47CC-96FC-E378A0571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56CE-E3BC-4BC3-9EA9-C02C25DA7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et i Bridg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coring av spil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ammenligning av scor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og utregning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coring av spillet ved bordet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te er detaljert satt opp i § 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Utregningsmetoder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aljene finnes i § 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Reglene om minst 60 %  og bruken av Neubergs formel er hjemlet i denne paragrafe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e også plansjeserien turneringsfor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tregn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øren bestemmer  hvilken utregningsmetode som skal bruk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rsom IMP eller MP brukes så gjelder reglene for bruken av dem i § 78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Neuberg’s formel er kun tilgjengelig i BK2000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Justeringer må gjøres manuelt i andre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anuell sco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es om de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lederboka Bjarne Mathis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lemen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nskap av Per Nord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atch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2 poeng for alle svaker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alle lik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justerte scorer på andre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ummer resultatet for et lag - se i tabell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ummen av IMP gir grunnlaget for beregning av V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Øvingsoppg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 SlipperR 1-4 fra Kilder\Nordland\Regnsk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med datamaski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Resultatene tastes inn i maskin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 på inntastingsbil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till inn beregningen slik du vil ha d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ruk kontrakt og stikk og evt. kontroll med score for å redusere feilpros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erieturneringer Butlerscore scores pr bor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Howell og Mitchell turneringer scores pr spil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er scores pr kam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11:16:54Z</dcterms:created>
  <dc:creator>Per Nordland</dc:creator>
  <dc:description/>
  <dc:language>en-US</dc:language>
  <cp:lastModifiedBy>Per Nordland</cp:lastModifiedBy>
  <dcterms:modified xsi:type="dcterms:W3CDTF">2001-09-29T14:42:12Z</dcterms:modified>
  <cp:revision>1</cp:revision>
  <dc:subject/>
  <dc:title>Regnskapet i Bridge</dc:title>
</cp:coreProperties>
</file>